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6799320" cy="9928080"/>
          </a:xfrm>
          <a:custGeom>
            <a:avLst/>
            <a:gdLst>
              <a:gd name="textAreaLeft" fmla="*/ 360 w 6799320"/>
              <a:gd name="textAreaRight" fmla="*/ 6798960 w 67993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39">
                <a:moveTo>
                  <a:pt x="4" y="0"/>
                </a:moveTo>
                <a:arcTo wR="4" hR="4" stAng="16200000" swAng="-5400000"/>
                <a:lnTo>
                  <a:pt x="0" y="31535"/>
                </a:lnTo>
                <a:arcTo wR="4" hR="4" stAng="10800000" swAng="-5400000"/>
                <a:lnTo>
                  <a:pt x="21596" y="315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520" y="753840"/>
            <a:ext cx="493524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0760" y="4714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dt" idx="16"/>
          </p:nvPr>
        </p:nvSpPr>
        <p:spPr>
          <a:xfrm>
            <a:off x="3847680" y="-36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7"/>
          </p:nvPr>
        </p:nvSpPr>
        <p:spPr>
          <a:xfrm>
            <a:off x="-360" y="943092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8"/>
          </p:nvPr>
        </p:nvSpPr>
        <p:spPr>
          <a:xfrm>
            <a:off x="3847680" y="9430920"/>
            <a:ext cx="2924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24F8B-6A32-4582-B367-474FA0870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200240" y="754200"/>
            <a:ext cx="4398840" cy="37224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1120" y="4714920"/>
            <a:ext cx="54370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366-18E2-4750-8D35-B1DAB1A8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715-4D42-4087-97B2-27902E24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C76-2157-4134-9030-F6DFF235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03A-E3B9-43A6-89A9-DF185FE5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71A2-DEC9-40B9-B581-FD9AF2C3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C75A-7CA7-4231-8EC6-B962097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B07-2D77-409D-87C5-B8C9982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E73-D581-4743-A9C4-70CC994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D3BF-D2F1-41CA-8BEA-8D7A42A2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05CE-EA02-43C4-B8D4-F6D4A84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5E33-D3CB-470B-A85B-1BB9F124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E9F-3F79-46B5-96C0-448E8F8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497D-A108-414B-9D73-E03FD62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A581-3F59-4D7B-8631-684B3DB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04EA-0CDC-415B-B5E7-98AF528B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C616-6B0E-4A1D-B66A-0468C570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1EF7-9426-4A47-A79A-719E32A5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4E56-F0F8-455E-908F-E727F9E6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3B20-604A-4E1B-865D-3C34675F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42F9-227D-4695-9C2A-B66F0C2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6333-9A4C-4E6E-8349-A5A81BA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D3348-B6C0-481A-B43E-88872670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33E-E33E-43B7-A022-12A5AE0F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361C-2D3E-4FBB-BE32-625E25E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3038-1E60-4194-9F85-27055EC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5FE0-2E96-4849-B7C3-86A7FA7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0EA7-E460-4892-93A3-72B154C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1B79-F1A2-4F92-8D94-F287FD0F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4654-C6C7-45F5-A1F4-6E04BA94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04F6-F082-44D3-9375-777B5D03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1806-A989-40E9-BD93-6EA894E9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6E9D6-EE03-4A97-A5D6-C26C14CF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9727-E8E9-4157-A99C-B7B8919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B34-E0DC-4BB5-BE16-6CD61E1A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473F-1EE9-4998-9D8D-673233D9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06BB3-96C7-460F-A6A0-AE2F47EA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C1D11-CA22-4633-9DBB-C9E777A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B442-441C-4524-87E8-DD8D2788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5E05-C194-431A-B073-78AF061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1671-E1F4-4E77-A89D-E8BF043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82DBE-4A1F-4640-A805-9BD56D97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4FAB-EC3E-4EE2-948B-DDA12EAE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9123-FCCE-4D91-84D0-2C39CC07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D013-4667-424C-87F0-032A6CC2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88D-A9AC-4018-BD83-50D24C98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2BFA-D9A9-402D-9974-504C1AA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95313-AA56-4F44-BBFD-7262F8AB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1967F-19FC-43BA-875C-058A17BE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E3BD-1AC2-4C98-8E84-853A4C7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7121-3F2F-4E66-8DE8-D0855CD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E68F-53DC-4385-BD48-19E5755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CBA6F-9F6F-4428-8097-96B01095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B7B2-9A98-42D1-AA8D-32DEE534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7A4E5-041D-4B02-8C9E-FB86118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216C0-55BB-4A5E-B243-DBB896A6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4392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90E-8E44-49CF-9E13-0AF07BB9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6148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19320" y="176832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6148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619320" y="4184640"/>
            <a:ext cx="29120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1A66-E6B6-4A4F-A696-4250D007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F6B-1942-4C20-83AB-8507841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7560" y="418464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DDC-9965-4967-B130-2C8647BD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7560" y="1768320"/>
            <a:ext cx="441324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84640"/>
            <a:ext cx="904392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F2F-F30D-4841-9EC7-C4A3FCF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439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43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687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2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472F7-CF0C-4948-8683-2D6AF9E7B5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40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06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65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C2E37-4BFC-437A-BBAE-AD73D0420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40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06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65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B49EB-54C7-4B3E-9642-E7D73F44E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40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4068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654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176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230CF-5086-409F-A494-3253C2969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CE4B-6EBD-4C0D-B0A6-5B7C96B084CC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davis@ic3.c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-1403280" y="2038320"/>
            <a:ext cx="10836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elanie Davis (IC3) &amp; Jean-Pierre Ceron (Meteo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1"/>
              </a:rPr>
              <a:t>mdavis@ic3.ca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, jean-pierre.ceron@meteo.f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1" lang="es-ES" sz="4100" spc="-1" strike="noStrike">
                <a:solidFill>
                  <a:srgbClr val="000000"/>
                </a:solidFill>
                <a:latin typeface="Arial"/>
                <a:ea typeface="DejaVu Sans"/>
              </a:rPr>
              <a:t>EUPORIAS WP4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Climat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form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arts: M25 (November 20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4800" indent="-206640"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2044800"/>
                <a:tab algn="l" pos="2492280"/>
                <a:tab algn="l" pos="2941560"/>
                <a:tab algn="l" pos="3390840"/>
                <a:tab algn="l" pos="3840120"/>
                <a:tab algn="l" pos="4289400"/>
                <a:tab algn="l" pos="4738680"/>
                <a:tab algn="l" pos="5187960"/>
                <a:tab algn="l" pos="5637240"/>
                <a:tab algn="l" pos="6086520"/>
                <a:tab algn="l" pos="6535800"/>
                <a:tab algn="l" pos="6985080"/>
                <a:tab algn="l" pos="7434360"/>
                <a:tab algn="l" pos="7883640"/>
                <a:tab algn="l" pos="8332920"/>
                <a:tab algn="l" pos="8782200"/>
                <a:tab algn="l" pos="9231480"/>
                <a:tab algn="l" pos="9680400"/>
                <a:tab algn="l" pos="10129680"/>
                <a:tab algn="l" pos="10578960"/>
                <a:tab algn="l" pos="11028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nds: M43 (May 20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336760" y="7097760"/>
            <a:ext cx="52228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PORIAS General Assembly, Toulouse, 21</a:t>
            </a:r>
            <a:r>
              <a:rPr b="0" lang="en-GB" sz="15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ctober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64000" y="0"/>
            <a:ext cx="741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117360" y="1644480"/>
            <a:ext cx="25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314360"/>
            <a:ext cx="4751280" cy="2892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327640" y="1008000"/>
            <a:ext cx="4608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ind Resource Consultanc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asonal Climate Variabil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probability forecast of the most likely wind power tercile (above normal, normal, below normal,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8720" y="5530680"/>
            <a:ext cx="4824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Fabian Lienert, Climate Forecasting Unit, IC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569960" y="2722680"/>
            <a:ext cx="836928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664000" y="0"/>
            <a:ext cx="741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17360" y="1644480"/>
            <a:ext cx="25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-117360" y="1644480"/>
            <a:ext cx="25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5907240" cy="5102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392720" y="2584440"/>
            <a:ext cx="6016680" cy="50468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5440" y="5994360"/>
            <a:ext cx="4967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Halcrow Water, 2013.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UK Environment A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of Probabilistic Forecasting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 Flood Incident Managemen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42920" y="1065240"/>
            <a:ext cx="10296360" cy="78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input from WP12 stakeholder interviews and RT2 climate forecasts and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1 (All): 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chai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and its relevant economic model(s) and knowledge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isk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climate and non climate) of the decision processes ident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2 (All): 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sess impacts and risk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anagement strategi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throughout the DMPs over S2D times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3 (All) : 20% ti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- Define 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ethodolog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to evaluate the DMPs that are affected by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4 (All): 40% tim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- Evaluate the relativ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weight of climate informat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in the relevant D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5 (UNIVLEEDS, IC3, MF, WHO Euro, and WFP): 1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standardised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rotocol(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) for evaluating D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4.1.6 (DWD, MF, WHO Euro, and WFP): 15%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WMO Regional Climate Centre-network informatio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nd its relevance to the DM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input from WP 1.1, Task 1.1.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: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 – qual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31964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efine Clim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provided information on the decision mak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5688000"/>
            <a:ext cx="10294920" cy="71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wards New Business Opportunities (WP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wnstream, Operational Decision Support System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6483240"/>
            <a:ext cx="9252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622680" y="2503440"/>
            <a:ext cx="6421320" cy="4056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14050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360" y="2735280"/>
            <a:ext cx="4103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xtract value of low skill fore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CMWF's Weather Rou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tuitive diagnostics for communicating the skill of probabilistic forecast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ffective interest rate of forecast v clima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144360" y="144000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68360" y="3816360"/>
            <a:ext cx="7920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Risk of not acting: if high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ould you act regardless of the forec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Use of a probabilistic forecast/interpretation of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Test using a “Placebo”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144360" y="147636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 – qual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144360" y="266544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24800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efine Clim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provided information on the decision mak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52360" y="5078520"/>
            <a:ext cx="9252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Data needs and its communications (risk alongside uncertai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- Visualis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isation? Strategy/protocol for providing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-47520" y="163368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lue of Climate Services – quantitative: cost/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f s2d probabilistic forecasts on the decision making process – quant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144360" y="144000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91636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le of Climate Services – qualitative: the huma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ffect of Climate Services on stakeholders decisions – qualit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144360" y="2736720"/>
            <a:ext cx="10512360" cy="1295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248000"/>
            <a:ext cx="10294920" cy="703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define Clim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provided information on the decision mak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688000"/>
            <a:ext cx="10294920" cy="71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wards New Business Opportunities (WP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wnstream, Operational Decision Support Systems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142920" y="4176720"/>
            <a:ext cx="10512360" cy="1295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6483240"/>
            <a:ext cx="9252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What would this look like? How would it work? (link to proto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6840360"/>
            <a:ext cx="10080720" cy="72108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5724360"/>
            <a:ext cx="10080720" cy="93672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851280"/>
            <a:ext cx="10080720" cy="93672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92360"/>
            <a:ext cx="10080720" cy="64764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6200" y="1138320"/>
            <a:ext cx="10296720" cy="85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ables and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1 and D4.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on the evaluation of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alitative and quantitative val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of D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4.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of (climate and non climate) management scenarios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4.1.2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qualitative and quantitative value of the D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on th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mpact of and risk related to climate forecasts developed in RT2 on DMP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for case studies and DSS’s selected withi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Case Stud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M4.1.3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 of the impact of and risk related to climate information on the DMPs and DS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view of the climat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products of the WMO RA VI RCC-networ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useful to the decision m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4.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blication of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per(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on the evaluation, skill and values of the decision making chain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664000" y="0"/>
            <a:ext cx="7414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1219320"/>
            <a:ext cx="4300560" cy="2452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862600" y="1219320"/>
            <a:ext cx="4179960" cy="2452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443640" y="3524400"/>
            <a:ext cx="3311640" cy="2415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324000" y="3741840"/>
            <a:ext cx="4381200" cy="1514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7596360" y="108000"/>
            <a:ext cx="2352600" cy="701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3129120" y="5251320"/>
            <a:ext cx="3387600" cy="230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Melanie Davis</cp:lastModifiedBy>
  <dcterms:modified xsi:type="dcterms:W3CDTF">2014-10-20T18:38:02Z</dcterms:modified>
  <cp:revision>63</cp:revision>
  <dc:subject/>
  <dc:title>Diapositiva 1</dc:title>
</cp:coreProperties>
</file>